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to use learning targets to improve student learn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why sharing learning targets with students is importa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define characteristics of a good learning target for stud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the components of a learning targ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eet with grade level partners to improve your learning targets and assessments for an existing learning progress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heck your learning targets are in student friendly languag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ill the assessment provide enough information to teacher and students about conceptual understanding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criteria for success and how will they be communicated to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se the classroom walkthrough forms for sharing learning targets to help frame your thinking for the abov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 we prepared for our start up days- Pinky, Sue, and I found ourselves to be unclear what we meant by our own vocabulary.  We decided we needed more clarity on the following question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we mean by a learning target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or a lesson? A unit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ere does the assessment fit in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do students know the criteria for succes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we think about a learning progression like the ones we introduced to you last fall, there are building block ideas, in blue, that help build the big ideas for the unit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we look at the building block ideas, each of them helps build the unit big ideas, and each of the blue building block ideas is a learning target for that less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 we started talking about learning progressions, we started talking about a learning cycle, and realized that in our minds, a complete learning cycle is completed in each blue building block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learning cycle within each building block should always have a similar structu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) Elicit initial ideas about the learning targe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) Gather some evidence about the learning targe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) Reflect and revisit initial thinking- in most cases, there will be some more gathering of evidence and reflection, perhaps a few cycles, before moving on to the next step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) Make sense of the new concept, within the context of the evidence gathered and each person’s initial idea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5) Assess students understanding and share that information with students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6) Based on the assessment, either replan the lesson with your PLC or continue on to the next building block in the learning progressi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e know learning targets are important for teachers and student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challenges do you face sharing learning targets with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nsider the following questions as you read Knowing Your Learning Targ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y is it important to share learning targets with your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characteristics of a good learning target for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hare your ideas with your table mat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Learning Targets as defined by Pinky, Sue, and Shann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clear learning target will tell student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be able to do when they’ve finished the lesson (assessment or performance expectation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2) What idea, topic, or subject is important for students to learn and understand so they can do this (content or process goa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3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show that they can do this, an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w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have to do it (criteria for succes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 learning target should convey to your students what today’s lesson should mean for them- as well as how this target is related to the big ideas in the uni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ith an understanding of the Learning Target vocabulary from the last slide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rticipants consider each learning target through the student len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!) What will I be able to do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) What is important for me to understand to do thi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) What are the criteria for succes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 over one as an example for the group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ve participants practice using strategies from Brookhart (Questioning/ Planning and Envisioning/ Using Examples/ Using Rubric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7680-8E82-4F11-96A6-8D2B2752BF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1DD8-B965-4DE4-9BED-DF2E428568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B112-FCA1-4F6D-A6B7-9D43BF3420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9E0B-37D3-4BC2-B023-3874ABECAB7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3345-2801-4702-A6CB-19C01E24C0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E948-A2DD-4CF1-AB9D-153C521BB92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643F-E2D6-4060-9AF2-55E658ED258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F87-6788-4592-960E-F33D94652C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D2A-B120-401F-A136-AF7145A1305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11C-3541-46DD-9DE0-8808971EA27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36C-EECF-438E-8A6B-ED10DC7B71C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ECD-1DE2-44AD-88BB-F251F732EF8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44E-1490-47CB-A181-B955595B49D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EC1-75EA-41A4-9718-D1B8E4CC1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446A-6BB4-4127-943C-BC381ACDF81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A4A-2AD6-4BD7-9FC7-ABF41ACBD8D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3F3-0DCB-4F94-B7D6-5C74D94DA6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CED-ED23-4C7B-A41B-02D11E6EC3E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93A-7774-4C83-8F87-D5493F6EE5F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30A-AA62-4BE9-B58E-6EB8E2CF6CE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16A2-3176-43D1-A4D5-A54F9CFA378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0239-C09C-4A7C-8B09-511DCBBF59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6038-1D4C-478F-BBEE-86F2CCB8B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617B-F480-4D27-9816-59C5EC6937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492D-2EA3-4C04-82FD-303ADF556A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D384-69A1-4BA3-81C4-8DFF72FA44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1362-A388-4BE9-B354-9BFEA1668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6325-4DAE-4FD3-9673-413053BFF7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AE06-903B-4329-946E-EF2EACBC36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60E7-13E5-4D9B-B99D-7C87E216A8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3996-EE3F-43F9-A5A4-0C58E961F9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0458-0E9B-416A-AA29-99CA857F32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3217-4FE7-42CD-9BA4-85BF0059D4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3FFD-7856-4E81-A43B-33262E0F48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A566-1FD2-4DCB-979F-5486040C2E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CD90-15D7-4DFE-855D-A31C033C9B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3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D4AC-0249-4DB1-B92C-A3E468F53016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464A-4DD6-4D79-81FC-F7E8B46BEF5D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128520"/>
            <a:ext cx="1170936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10675440" y="9124560"/>
            <a:ext cx="319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A142-3FE6-4305-B443-35EE8465586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058080" y="1952640"/>
            <a:ext cx="603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115560" tIns="0" bIns="0" anchor="t">
            <a:norm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to use learning targets to improve student le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why sharing learning targets with students is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characteristics of a good learning target for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the components of a learning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927000" y="1955880"/>
            <a:ext cx="500724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-3051000" y="-2705040"/>
            <a:ext cx="17998920" cy="135000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016600" y="171360"/>
            <a:ext cx="22604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ork with your peers to ensure your learning targets are in student friendly langu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2657520" y="6337440"/>
            <a:ext cx="2260440" cy="34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ill the assessment provide enough information to teacher and students about conceptual understanding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8867880" y="8178840"/>
            <a:ext cx="32637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are the criteria for success and how will they be communicated to student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2AAA-B6E0-4CA9-BC93-E2BCAA207A57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-692280" y="-892080"/>
            <a:ext cx="13690800" cy="109393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536840" y="1778040"/>
            <a:ext cx="9931320" cy="38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What do we mean by a learning target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For a lesson?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A unit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Where does the assessment fit in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How do students know the criteria for succes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C9CE-A3B4-45EF-8878-3510506A92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317520" y="1155600"/>
            <a:ext cx="12407760" cy="746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17720" y="5892840"/>
            <a:ext cx="1270080" cy="1270080"/>
          </a:xfrm>
          <a:prstGeom prst="roundRect">
            <a:avLst>
              <a:gd name="adj" fmla="val 1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031840" y="5937120"/>
            <a:ext cx="10670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ll plants and animals have various external par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4178160" y="3137040"/>
            <a:ext cx="1270080" cy="2603520"/>
          </a:xfrm>
          <a:custGeom>
            <a:avLst/>
            <a:gdLst>
              <a:gd name="textAreaLeft" fmla="*/ 55800 w 1270080"/>
              <a:gd name="textAreaRight" fmla="*/ 1214280 w 1270080"/>
              <a:gd name="textAreaTop" fmla="*/ 55800 h 2603520"/>
              <a:gd name="textAreaBottom" fmla="*/ 2547720 h 2603520"/>
            </a:gdLst>
            <a:ahLst/>
            <a:rect l="textAreaLeft" t="textAreaTop" r="textAreaRight" b="textAreaBottom"/>
            <a:pathLst>
              <a:path w="21600" h="44271">
                <a:moveTo>
                  <a:pt x="3240" y="0"/>
                </a:moveTo>
                <a:arcTo wR="3240" hR="3240" stAng="16200000" swAng="-5400000"/>
                <a:lnTo>
                  <a:pt x="0" y="41031"/>
                </a:lnTo>
                <a:arcTo wR="3240" hR="3240" stAng="10800000" swAng="-5400000"/>
                <a:lnTo>
                  <a:pt x="18360" y="44271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515280" y="1701720"/>
            <a:ext cx="1269720" cy="243864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2438640"/>
              <a:gd name="textAreaBottom" fmla="*/ 2382840 h 2438640"/>
            </a:gdLst>
            <a:ahLst/>
            <a:rect l="textAreaLeft" t="textAreaTop" r="textAreaRight" b="textAreaBottom"/>
            <a:pathLst>
              <a:path w="21600" h="41480">
                <a:moveTo>
                  <a:pt x="3240" y="0"/>
                </a:moveTo>
                <a:arcTo wR="3240" hR="3240" stAng="16200000" swAng="-5400000"/>
                <a:lnTo>
                  <a:pt x="0" y="38240"/>
                </a:lnTo>
                <a:arcTo wR="3240" hR="3240" stAng="10800000" swAng="-5400000"/>
                <a:lnTo>
                  <a:pt x="18360" y="41480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4295880" y="3193920"/>
            <a:ext cx="106668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ifferent animals use their body parts in different ways to see, hear, grasp objects, and move from place to place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6553080" y="1670040"/>
            <a:ext cx="10670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nimals have various ways of obtaining food and water.  Nearly all animals drink water or eat foods that contain water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8826480" y="774720"/>
            <a:ext cx="2425680" cy="232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9261360" y="1047600"/>
            <a:ext cx="15620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Living things have basic needs, and they meet their needs in various way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8876880" y="44280"/>
            <a:ext cx="23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Unit Big Ide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6037560" y="438012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3702240" y="598680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1445040" y="733284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044800" y="1397160"/>
            <a:ext cx="8902440" cy="8102520"/>
          </a:xfrm>
          <a:prstGeom prst="roundRect">
            <a:avLst>
              <a:gd name="adj" fmla="val 234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4477680" y="54360"/>
            <a:ext cx="4036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Learning Cycle Withi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ach Building Bloc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4389480" y="2439360"/>
            <a:ext cx="4214520" cy="3661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Initial Ideas about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6485040" y="2900160"/>
            <a:ext cx="17280" cy="50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4390560" y="4604760"/>
            <a:ext cx="3738960" cy="366120"/>
          </a:xfrm>
          <a:prstGeom prst="rect">
            <a:avLst/>
          </a:prstGeom>
          <a:noFill/>
          <a:ln w="2556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Calibri"/>
                <a:ea typeface="Calibri"/>
              </a:rPr>
              <a:t>Reflect on/ Revisit Initial Ide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5648040" y="5817600"/>
            <a:ext cx="1712160" cy="366120"/>
          </a:xfrm>
          <a:prstGeom prst="rect">
            <a:avLst/>
          </a:prstGeom>
          <a:noFill/>
          <a:ln w="2556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080"/>
                </a:solidFill>
                <a:latin typeface="Calibri"/>
                <a:ea typeface="Calibri"/>
              </a:rPr>
              <a:t>Sense Mak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3804480" y="3430080"/>
            <a:ext cx="5322600" cy="366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alibri"/>
                <a:ea typeface="Calibri"/>
              </a:rPr>
              <a:t>Gather Evidence about the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5280480" y="6960600"/>
            <a:ext cx="2370600" cy="36612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alibri"/>
                <a:ea typeface="Calibri"/>
              </a:rPr>
              <a:t>Lesson Assess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516440" y="3886200"/>
            <a:ext cx="12600" cy="658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6437160" y="5046840"/>
            <a:ext cx="20880" cy="7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31600" y="7419600"/>
            <a:ext cx="1592280" cy="9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443280" y="6270120"/>
            <a:ext cx="17640" cy="6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6804000" y="7416720"/>
            <a:ext cx="1501920" cy="912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2301840" y="8362800"/>
            <a:ext cx="410220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Students not successful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Replan instruction with help of PLC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Begin this lesson cycle over with sharing of initial ideas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6696000" y="8441640"/>
            <a:ext cx="394344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Students successful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Proceed to next lesson in learning progressio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5149440" y="1588320"/>
            <a:ext cx="2709000" cy="366120"/>
          </a:xfrm>
          <a:prstGeom prst="rect">
            <a:avLst/>
          </a:prstGeom>
          <a:noFill/>
          <a:ln w="255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Calibri"/>
                <a:ea typeface="Calibri"/>
              </a:rPr>
              <a:t>Share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6489720" y="2006640"/>
            <a:ext cx="9360" cy="355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5272200" y="3898800"/>
            <a:ext cx="11160" cy="633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1063800" y="-279360"/>
            <a:ext cx="15124320" cy="100900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0" y="8147160"/>
            <a:ext cx="11976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How do you share learning targets with your student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735920" y="9174600"/>
            <a:ext cx="21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-12600" y="25200"/>
            <a:ext cx="13004640" cy="2679480"/>
          </a:xfrm>
          <a:prstGeom prst="rect">
            <a:avLst/>
          </a:prstGeom>
          <a:solidFill>
            <a:srgbClr val="ffffff"/>
          </a:solidFill>
          <a:ln w="63360">
            <a:solidFill>
              <a:srgbClr val="800000"/>
            </a:solidFill>
            <a:miter/>
          </a:ln>
        </p:spPr>
        <p:txBody>
          <a:bodyPr lIns="50760" rIns="1155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following questions as you read Knowing Your Learning Tar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it important to share learning targets with your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students need to know about a learning target in order to be successfu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your ideas with your table m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12600" y="2654280"/>
            <a:ext cx="13004640" cy="7480440"/>
          </a:xfrm>
          <a:prstGeom prst="rect">
            <a:avLst/>
          </a:prstGeom>
          <a:ln w="63360">
            <a:solidFill>
              <a:srgbClr val="8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-1079640" y="-3327480"/>
            <a:ext cx="17119800" cy="17119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647640" y="75960"/>
            <a:ext cx="11709360" cy="35938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5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be able to do when they’ve finished the lesson (assessment or performance expec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2) What idea, topic, or subject is important for students to learn and understand so they can do this (content or process go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3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show that they can do this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how well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have to do it (criteria for suc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0675440" y="9124560"/>
            <a:ext cx="319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817-473C-417D-BCBF-5DD56370BD2C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-228600" y="7721640"/>
            <a:ext cx="11074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 Italic"/>
                <a:ea typeface="Calibri Bold Italic"/>
              </a:rPr>
              <a:t>A learning target should convey to your students what today’s lesson should mean for them- as well as how this target is related to the big ideas in the uni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DE04-8049-4A88-85BE-6D707C4BB2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906480" y="-2343240"/>
            <a:ext cx="15117840" cy="1441476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276360" y="2260080"/>
            <a:ext cx="6476760" cy="28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Consider each learning target from a student’s perspectiv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will I be able to do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is important for me to understand to do this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are the criteria for success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2629080" y="609588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Describe how you could make one of the sample learning targets clear for your students using one of the strategies from Figure 2.1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Share your example with other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